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58A-B06C-46E7-B117-594D7854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B79-3877-4565-8C32-E457737F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258-CF48-4081-B7F0-C5A5CA4A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ADD-2B3A-4E69-83E1-1695A640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E79-526C-4C6E-BBB5-DE47416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CFD-55F9-4BBB-9FC9-2D49784B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CB3-FC4D-490E-9C51-8A404090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6B6-9130-44FC-AD1C-89F85091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A56-9DBC-40AE-BF10-02EF315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C11-D35C-4C0D-842C-8464AC0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3EF-C93D-43FF-A327-1D3A5976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6A4-0B6F-4B2E-A5AD-A9F77B0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A38C4-F248-45C2-A6F1-C636EC89D5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81FF9-CEBD-4366-B058-4002A787C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800" y="387000"/>
            <a:ext cx="5710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aching Tip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9440" y="2401920"/>
            <a:ext cx="806148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Give your partner a tip/hint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Give your partner another tip/hint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Tell your partner the answer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 Ask your partner the question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basket ball.jpg"/>
          <p:cNvPicPr/>
          <p:nvPr/>
        </p:nvPicPr>
        <p:blipFill>
          <a:blip r:embed="rId1"/>
          <a:stretch/>
        </p:blipFill>
        <p:spPr>
          <a:xfrm>
            <a:off x="6083280" y="193680"/>
            <a:ext cx="283356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00:35:23Z</dcterms:created>
  <dc:creator>Molly Darnley</dc:creator>
  <dc:description/>
  <dc:language>en-US</dc:language>
  <cp:lastModifiedBy>Molly Darnley</cp:lastModifiedBy>
  <dcterms:modified xsi:type="dcterms:W3CDTF">2011-09-30T00:57:26Z</dcterms:modified>
  <cp:revision>5</cp:revision>
  <dc:subject/>
  <dc:title>Coaching Tips!</dc:title>
</cp:coreProperties>
</file>